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DA1-E24A-4904-B312-06BB28EF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449-F975-4B9C-BF12-463DE771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0D4-4354-4063-BDA7-67514490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433-25A2-4790-BFE3-98C98689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9A54-11C7-49D8-B50A-A79C1EAF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6FAD-B2EC-47D1-B9FA-20A69EB9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950A-0D86-4A9B-BEE2-4428CF4D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04A8-C9D0-4D1C-BFFF-F89AFD5B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AA9C-AC29-4468-A5C4-E62D9C10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49D2-5CF1-48B7-B17B-C705F6E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90CA-9072-4C87-8E4C-06AFAC8A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98A-DB16-4E69-8C30-BDC45608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BA7A-43FA-420C-B249-404ADEB6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3025-00E6-4CF9-9FB7-248E035F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E66-1467-4D66-9912-F708B875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12A9-A0FA-4FE2-9543-29A40847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2D66-45E8-47B7-877B-AFBD8837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5D1D-078B-4AB7-8E0C-A8719E92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21C8-8F93-44B1-8567-5FE0A39A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2D1A-DB8B-4071-833E-FD99AA5B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EB29-5AC1-444B-8D28-743E50A6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84E5-4C3A-44A1-BC0E-9F8EE17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47E-E6F9-4C2A-B5F4-64D678AF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AE0F-FD33-40B5-82DC-879AAD37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D410-C51B-482C-8BD6-C098687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4B8F-B7D1-48C0-A1D5-919110CE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FC63-3576-4730-B126-0B332D0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EED0-0BD0-458F-BEA4-C2B4DD95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6B41B-8087-4971-8550-BC5A3706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1494-FFB0-4094-901A-D79C461A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EB61-19CB-4CCE-AA3C-37813455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8EF0-0382-41D3-9641-A4A7A833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99BD7-9A1E-4224-952A-BA6470A7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47C-EF8D-4AA7-B2A8-DF990F5E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E9C3-F900-4D14-B95A-62A48938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70E10-AF46-43F2-9890-A0858977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F09EA-AC00-4A24-904C-F6926944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DFB23-9B80-4D14-A6B7-24A3AFB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6B0B-5348-47F2-A277-6922C7E8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7F5D-CB5D-4B68-9D55-CFC8C632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46C6-D9DD-4BF7-A9B9-0431B4F6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E06F-8184-42CB-B74A-B4EDBFF6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7573D-BB96-4136-A0F7-3F3BFDF1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7B043-AEF0-4F86-AD8D-46E05374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9FA-EBB2-4C97-8204-C5EC401D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1B593-CC17-498D-968E-7FAC7474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D42C9-B905-41B2-ACC0-ED33899F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66FD5-19D3-4466-A1B3-F608A2A2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D578E-4482-45C6-8F27-6F301170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C659-9A51-442B-A748-E515C844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0D1ED-BAC8-4B86-AE06-077CE06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E6AD-4242-4CA8-8D2D-762652FC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55BA3-C5B8-4399-AAE3-6582E5E4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14BE5-0D1B-4620-9D80-DC12FE36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0E0DF-4B36-4B23-AF06-422AF684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C72-162C-424C-878C-2E537F7C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CA70D-650B-4002-BA70-B3C81E96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4BD8-DCA0-47D0-9B79-027D9E24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157B4-250F-4DE0-A7ED-9F1D1A39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5751-68E9-40EC-9FBC-7A0BE122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6AA7A-255B-47FD-A667-498BD6D2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F44B-BB4D-4FEB-9C74-4F5337C1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422B-C30E-4C5A-AF8D-6B14AE5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C0859-98EC-4D36-9600-93C7B2BB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13BB-F603-4C20-A59B-793F4753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544D-FEBE-4D64-AF42-80AB5794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270-7585-47C3-A188-9BF46D89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73BE1-0600-42D4-AF56-89BE5A36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0F7BE-F8A2-4E92-8A8D-D453A549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2DB0E-5B26-4E71-BF23-C627FD88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7EF-93F9-4E4C-91D6-70070062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846-1A00-4F79-84FD-4575E3D4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B1E-0D14-4621-8E68-FB51A38D6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447-0C78-4BF3-AB4B-CA14786A8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E82-9294-4E0F-B3BE-5A6A26903D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7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7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8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F3B9-1E81-4819-A8D8-F047A99FAA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79C5-7A8A-43E8-8FA2-700B83958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0CC-130A-45A1-AAD5-57BE5912B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28600" y="533520"/>
            <a:ext cx="54100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alibri"/>
              </a:rPr>
              <a:t>SSVB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5880" y="304920"/>
            <a:ext cx="22860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3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518148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Sans Unicode"/>
              </a:rPr>
              <a:t>Sammi, Riley, Jax, and Morg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Sans Unicode"/>
              </a:rPr>
              <a:t>Freshman Semin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 rot="574800">
            <a:off x="1447920" y="4495680"/>
            <a:ext cx="6476760" cy="190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000000">
                    <a:alpha val="76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000000">
                    <a:alpha val="76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ngers with lead and chemical Cd</a:t>
            </a:r>
            <a:endParaRPr b="0" i="1" lang="en-US" sz="2400" spc="1" strike="noStrike">
              <a:ln w="9360">
                <a:solidFill>
                  <a:srgbClr val="66ccff"/>
                </a:solidFill>
                <a:miter/>
              </a:ln>
              <a:solidFill>
                <a:srgbClr val="000000">
                  <a:alpha val="76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542304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Unicode MS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</a:rPr>
              <a:t>nly on</a:t>
            </a:r>
            <a:r>
              <a:rPr b="0" lang="en-US" sz="3600" spc="-1" strike="noStrike">
                <a:solidFill>
                  <a:srgbClr val="003366"/>
                </a:solidFill>
                <a:latin typeface="Arial Unicode MS"/>
              </a:rPr>
              <a:t> SSVBB </a:t>
            </a:r>
            <a:r>
              <a:rPr b="0" lang="en-US" sz="1600" spc="-1" strike="noStrike">
                <a:solidFill>
                  <a:srgbClr val="003366"/>
                </a:solidFill>
                <a:latin typeface="Arial Unicode MS"/>
              </a:rPr>
              <a:t>channel 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5257800"/>
            <a:ext cx="23623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5334120"/>
            <a:ext cx="1447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SSVBB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600200" y="5410080"/>
            <a:ext cx="68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286680" y="3276720"/>
            <a:ext cx="2857320" cy="3581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3429000" y="3581280"/>
            <a:ext cx="2857680" cy="3276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914400" y="171360"/>
            <a:ext cx="1295280" cy="668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A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l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l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i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m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a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m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2:44:42Z</dcterms:created>
  <dc:creator>FSD</dc:creator>
  <dc:description/>
  <dc:language>en-US</dc:language>
  <cp:lastModifiedBy>FSD</cp:lastModifiedBy>
  <dcterms:modified xsi:type="dcterms:W3CDTF">2010-11-24T12:55:42Z</dcterms:modified>
  <cp:revision>2</cp:revision>
  <dc:subject/>
  <dc:title>Slide 1</dc:title>
</cp:coreProperties>
</file>